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963960" y="-144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98E116E-11E5-4A8C-916A-304F64975C3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59840" y="883620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EC3BADE-67DC-4562-9F66-A542944F6D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C884CA6-BFE3-45B7-8AF1-A67688A8B0F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5E3B192-F24D-4D71-B3B5-9D086F236E5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583920" y="2835000"/>
            <a:ext cx="5838840" cy="5902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1974960" y="606600"/>
            <a:ext cx="2824200" cy="2117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F9D7CE4-FD2A-4FDD-B371-A156D1D1A32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1B0C63C-80BC-4B48-85AF-55987C62D7A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ABDC1B9-E379-4E9E-B2CF-2EEFAB9A9F7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3B6DF70-30BA-42FF-8ED6-C98BB709CF5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BA6C2E5-A926-485A-ABA3-16C1A936A3C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CAE9BA9-A23C-47EB-B516-83312995ACA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B6A4698-69A6-43D9-978F-6EFDDC3C8C0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292A76A-862B-4BA9-A2DE-70E95AA1458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C291E1A-93CD-46CE-8F65-08923AFE95F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742EE07-6492-410C-8772-FDCD7AB9E06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266B64B-FA62-4BD5-AC50-F39A6D21F5C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16E1253-A1E8-447C-B636-AE7C75BE65E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E31CC7C-4371-4E68-BFF3-77DF57434CE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8090ECD-4009-4C8A-9AF2-B55107D5554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7BC5A87-A592-43AE-9781-C5986F91028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29CE8B3-4FCE-46BD-A19A-A16AE66FB03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C895B7B-4793-4856-A94B-4783CB9C922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xplain how proxies work for estimating, let's look at an example from outside the software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288850B-6C10-4D95-B4AE-FF8B75AF5E2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ient might have the following requirements for their new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37AA759-1EA4-4783-BD6F-CC6A27E6748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ilder can use historical data to build this table showing typical room s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3666027-6B37-4504-8716-A0CF0FEEF79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D7BF2D0-DABA-4438-99DD-8B30E96DC0A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19880" cy="34657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8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mbine the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ets of information to calculate the estimated area of the client's new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uld animate this to fill in the table in stages. Start with the first 2 columns, then add the rest of each row (row 1, row 2, then the rest, with total row as final ste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1C95938-4ECA-49E5-AD3C-4148DCA9302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9680" bIns="496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oftware development, we need to identify suitable prox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98D1F0E-B95B-4B57-B0E6-238C1329A5D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AEB0C55-4EA5-421F-A003-66901CA6959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46D38F8-FAC3-4939-BAF8-5D36E0DA7C2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EDE54CC-DA2D-49BE-A94B-0EA0265F537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B472F82-9D1B-405D-B27F-672E040147F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3009AF3-69DF-4543-A1AA-BADD06BF340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CDEBAA4-6D96-4DEC-AA3C-460D479949B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974960" y="606600"/>
            <a:ext cx="2824200" cy="2117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2AB0607-498C-4AA2-BF73-3802C6F7999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E4E0D66-EFF7-45C3-ADFF-5C1EBABE329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AF14E67-B9C2-4CBB-B138-1B687380544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CBE40E5-F996-4F7D-947F-13DB701D8A4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B92D162-FA99-4D92-99BB-03C5B9586C3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3963960" y="8813880"/>
            <a:ext cx="3029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78AA0A3-5A39-4F6B-B511-C2CD8512FD2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036880" y="652320"/>
            <a:ext cx="2703240" cy="20275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69880" y="2822400"/>
            <a:ext cx="586584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3D4704FA-9E6E-457C-BCE2-69B700654DDA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ECDE71BC-59AE-4663-A205-249738D1B941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64720" y="92664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ing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roject Planning Framework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704880" y="5641920"/>
            <a:ext cx="74484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7566480" y="5610240"/>
            <a:ext cx="80280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965240" y="1373040"/>
            <a:ext cx="1567080" cy="58752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971720" y="2232000"/>
            <a:ext cx="1568520" cy="7286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duc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nceptual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982880" y="3238560"/>
            <a:ext cx="1557360" cy="487440"/>
          </a:xfrm>
          <a:prstGeom prst="rect">
            <a:avLst/>
          </a:prstGeom>
          <a:noFill/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1979640" y="3995640"/>
            <a:ext cx="1549440" cy="57492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1974960" y="4838760"/>
            <a:ext cx="1565280" cy="49032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duc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1971720" y="5607000"/>
            <a:ext cx="1568520" cy="5810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velop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3962520" y="5472000"/>
            <a:ext cx="1400040" cy="7160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ize, resource,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5975280" y="5524560"/>
            <a:ext cx="1154160" cy="66348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3956040" y="4722840"/>
            <a:ext cx="1332000" cy="636480"/>
          </a:xfrm>
          <a:prstGeom prst="ellipse">
            <a:avLst/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vailabl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3968640" y="3033720"/>
            <a:ext cx="1316160" cy="730080"/>
          </a:xfrm>
          <a:prstGeom prst="ellipse">
            <a:avLst/>
          </a:prstGeom>
          <a:noFill/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Line 15"/>
          <p:cNvSpPr/>
          <p:nvPr/>
        </p:nvSpPr>
        <p:spPr>
          <a:xfrm>
            <a:off x="1608120" y="1684440"/>
            <a:ext cx="33192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2798640" y="2043000"/>
            <a:ext cx="0" cy="16200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Line 17"/>
          <p:cNvSpPr/>
          <p:nvPr/>
        </p:nvSpPr>
        <p:spPr>
          <a:xfrm>
            <a:off x="3560760" y="5837400"/>
            <a:ext cx="38592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8" name="Line 18"/>
          <p:cNvSpPr/>
          <p:nvPr/>
        </p:nvSpPr>
        <p:spPr>
          <a:xfrm>
            <a:off x="5380200" y="5837400"/>
            <a:ext cx="57924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9" name="Line 19"/>
          <p:cNvSpPr/>
          <p:nvPr/>
        </p:nvSpPr>
        <p:spPr>
          <a:xfrm flipV="1">
            <a:off x="6556320" y="3451320"/>
            <a:ext cx="0" cy="20541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Line 20"/>
          <p:cNvSpPr/>
          <p:nvPr/>
        </p:nvSpPr>
        <p:spPr>
          <a:xfrm flipH="1">
            <a:off x="5302080" y="3438360"/>
            <a:ext cx="125280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1" name="Line 21"/>
          <p:cNvSpPr/>
          <p:nvPr/>
        </p:nvSpPr>
        <p:spPr>
          <a:xfrm flipH="1">
            <a:off x="5302080" y="4286160"/>
            <a:ext cx="125280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2" name="Line 22"/>
          <p:cNvSpPr/>
          <p:nvPr/>
        </p:nvSpPr>
        <p:spPr>
          <a:xfrm flipH="1">
            <a:off x="3563640" y="3417840"/>
            <a:ext cx="38556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Line 23"/>
          <p:cNvSpPr/>
          <p:nvPr/>
        </p:nvSpPr>
        <p:spPr>
          <a:xfrm flipH="1">
            <a:off x="3563640" y="5033880"/>
            <a:ext cx="36828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4" name="Line 24"/>
          <p:cNvSpPr/>
          <p:nvPr/>
        </p:nvSpPr>
        <p:spPr>
          <a:xfrm>
            <a:off x="2798640" y="3046320"/>
            <a:ext cx="0" cy="16524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5" name="Line 25"/>
          <p:cNvSpPr/>
          <p:nvPr/>
        </p:nvSpPr>
        <p:spPr>
          <a:xfrm>
            <a:off x="2798640" y="3824280"/>
            <a:ext cx="0" cy="14436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6" name="Line 26"/>
          <p:cNvSpPr/>
          <p:nvPr/>
        </p:nvSpPr>
        <p:spPr>
          <a:xfrm>
            <a:off x="2798640" y="4656240"/>
            <a:ext cx="0" cy="16200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7" name="Line 27"/>
          <p:cNvSpPr/>
          <p:nvPr/>
        </p:nvSpPr>
        <p:spPr>
          <a:xfrm>
            <a:off x="2798640" y="5375160"/>
            <a:ext cx="0" cy="20484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8" name="Line 28"/>
          <p:cNvSpPr/>
          <p:nvPr/>
        </p:nvSpPr>
        <p:spPr>
          <a:xfrm flipH="1">
            <a:off x="1536840" y="5857920"/>
            <a:ext cx="42048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Line 29"/>
          <p:cNvSpPr/>
          <p:nvPr/>
        </p:nvSpPr>
        <p:spPr>
          <a:xfrm>
            <a:off x="5302080" y="5029200"/>
            <a:ext cx="1246320" cy="0"/>
          </a:xfrm>
          <a:prstGeom prst="line">
            <a:avLst/>
          </a:prstGeom>
          <a:ln w="28440">
            <a:solidFill>
              <a:srgbClr val="cccc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Line 30"/>
          <p:cNvSpPr/>
          <p:nvPr/>
        </p:nvSpPr>
        <p:spPr>
          <a:xfrm>
            <a:off x="7156440" y="5837400"/>
            <a:ext cx="45396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1" name="Line 31"/>
          <p:cNvSpPr/>
          <p:nvPr/>
        </p:nvSpPr>
        <p:spPr>
          <a:xfrm flipH="1">
            <a:off x="3549600" y="4282920"/>
            <a:ext cx="355680" cy="0"/>
          </a:xfrm>
          <a:prstGeom prst="line">
            <a:avLst/>
          </a:prstGeom>
          <a:ln w="2844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Oval 32"/>
          <p:cNvSpPr/>
          <p:nvPr/>
        </p:nvSpPr>
        <p:spPr>
          <a:xfrm>
            <a:off x="3913200" y="3892680"/>
            <a:ext cx="1384200" cy="733320"/>
          </a:xfrm>
          <a:prstGeom prst="ellipse">
            <a:avLst/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opular Estimating Approach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zzy log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po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ph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uzzy Logic Size Estimating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ther size data on previously developed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divide these data into size categories and subcategori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917640" y="3311640"/>
          <a:ext cx="6826320" cy="28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3311640"/>
                    <a:ext cx="682632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uzzy Logic Size Estimating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estimating a new program, compare the planned program with prior programs and select the most appropriate size categor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915840" y="3560760"/>
          <a:ext cx="6826320" cy="28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3560760"/>
                    <a:ext cx="6826320" cy="28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5"/>
          <p:cNvSpPr/>
          <p:nvPr/>
        </p:nvSpPr>
        <p:spPr>
          <a:xfrm>
            <a:off x="804240" y="2933640"/>
            <a:ext cx="568296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i="1" lang="en-US" sz="2000" spc="-1" strike="noStrike">
                <a:solidFill>
                  <a:srgbClr val="3399ff"/>
                </a:solidFill>
                <a:latin typeface="Arial"/>
              </a:rPr>
              <a:t>For a medium-small, estimated LOC = 23,988 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4" name="Oval 6"/>
          <p:cNvSpPr/>
          <p:nvPr/>
        </p:nvSpPr>
        <p:spPr>
          <a:xfrm>
            <a:off x="3219480" y="5338800"/>
            <a:ext cx="1233360" cy="43956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65" name="Arc 7"/>
          <p:cNvSpPr/>
          <p:nvPr/>
        </p:nvSpPr>
        <p:spPr>
          <a:xfrm>
            <a:off x="2262240" y="3048120"/>
            <a:ext cx="996840" cy="2543040"/>
          </a:xfrm>
          <a:custGeom>
            <a:avLst/>
            <a:gdLst/>
            <a:ahLst/>
            <a:rect l="l" t="t" r="r" b="b"/>
            <a:pathLst>
              <a:path fill="none" w="21524" h="21600">
                <a:moveTo>
                  <a:pt x="21490" y="21599"/>
                </a:moveTo>
                <a:cubicBezTo>
                  <a:pt x="10273" y="21582"/>
                  <a:pt x="937" y="12982"/>
                  <a:pt x="-1" y="1806"/>
                </a:cubicBezTo>
              </a:path>
              <a:path stroke="0" w="21524" h="21600">
                <a:moveTo>
                  <a:pt x="21490" y="21599"/>
                </a:moveTo>
                <a:cubicBezTo>
                  <a:pt x="10273" y="21582"/>
                  <a:pt x="937" y="12982"/>
                  <a:pt x="-1" y="1806"/>
                </a:cubicBezTo>
                <a:lnTo>
                  <a:pt x="21524" y="0"/>
                </a:lnTo>
                <a:lnTo>
                  <a:pt x="21490" y="21599"/>
                </a:lnTo>
                <a:close/>
              </a:path>
            </a:pathLst>
          </a:custGeom>
          <a:noFill/>
          <a:ln cap="rnd" w="25560">
            <a:solidFill>
              <a:srgbClr val="3399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uzzy Logic Advanta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zzy logic estimating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based on relevant historical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easy to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s no special tools or trai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reasonably good estimates in cases where new work is like prior experi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uzzy Logic Disadvanta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36120" y="1552320"/>
            <a:ext cx="77122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requires a lot of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stimators must be familiar with the historically-developed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provides only a crude siz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useful for new program typ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useful for programs that are much larger or smaller than the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unction Point Estimating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unction point is an arbitrary un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application functions (inputs, outputs, files, inquiries, interfac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ed by simple, average, 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job complexity, adjust a further +/- 35%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03160" y="458640"/>
            <a:ext cx="79740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unction Point Estimating Procedur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12440" y="1539720"/>
            <a:ext cx="78375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1124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numbers of each function type in the applic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24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24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ge the scale and complexity of each function.  Calculate function point tot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24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24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historical data on development cost per function point to make the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24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240" indent="-223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y function points times rate to get the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unction Point Advanta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20800" y="1536840"/>
            <a:ext cx="7748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usable in the earliest requirements pha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independent of programming language, product design, or development sty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exists a large body of historical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a well-documented meth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is an active users’ grou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unction Point Disadvanta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14320" y="1539720"/>
            <a:ext cx="75484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not directly count an existing product’s function point cont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out historical data, it is difficult to improve estimating skil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points do not reflect language, design, or style differen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points are designed for estimating commercial data processing applic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andard Component Sizing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the principal product size leve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s, modules, screen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ypical sizes of ea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 new 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 component level at which estimation is practic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how many of those components are likely to be in the produ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rmine the maximum and minimum numbers possib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andard Component Sizing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the size as the number of components of each type times typical sizes of each type.  Add all of the type sizes to figure a total siz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for the maximum, minimum, and likely numbers of compon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 size as {maximum+4</a:t>
            </a:r>
            <a:r>
              <a:rPr b="1" lang="en-US" sz="2000" spc="-1" strike="noStrike" baseline="-2000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likely)+minimum}/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84080" y="59004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tandard Component Sizing - Advantages and Disadvanta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13960" y="1773000"/>
            <a:ext cx="7410600" cy="3965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relevant historical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s no special tools or trai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 rough estimate ra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use large components early in a pro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data on large component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lphi Size Estimating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s several estim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makes an independent estim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submits their estimate to a coordina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rdin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culates averag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s on form: average, other estimates (anonymous), and previous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reestimates stabili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verag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stim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range of original estim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4080" y="59004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lphi Size Estimating - Advantages and Disadvanta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813960" y="1779120"/>
            <a:ext cx="7410600" cy="4170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produce very accurate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zes organization’s ski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work for any size 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es on a few expe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ime consum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subject to common bi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ing Proxie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asic iss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od size measures are detail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ors rarely can think in detail early in a projec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ternativ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it to estimate until you have the detai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your best gu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a suitable prox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ing Proxie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ood proxy should correlate closely to development cos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ood proxy should be easy to visualize early in develop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should also be a physical entity that can be coun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Building Cos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uilder needs to know the floor area (in sq. ft.) to estimate the cost of construc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lient normally cannot provide their requirements in sq. ft., but knows the type and number of rooms desir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rooms as a proxy for size and translate from these into sq. ft. using historical (typical)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: Client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drooms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large, 2 medium and 1 sm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hrooms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large and 2 me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itch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lar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ving room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lar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ning room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me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mily room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lar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tility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me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92080" y="4838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Historical Building Dat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928800" y="1587600"/>
          <a:ext cx="7410240" cy="4573440"/>
        </p:xfrm>
        <a:graphic>
          <a:graphicData uri="http://schemas.openxmlformats.org/drawingml/2006/table">
            <a:tbl>
              <a:tblPr/>
              <a:tblGrid>
                <a:gridCol w="3255840"/>
                <a:gridCol w="1424160"/>
                <a:gridCol w="1360440"/>
                <a:gridCol w="136980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oom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throom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chen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ing room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ning room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rooms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ity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cture Topic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estimate siz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backgrou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princi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prox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428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oxy Calcul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928800" y="1590840"/>
          <a:ext cx="7410240" cy="4570200"/>
        </p:xfrm>
        <a:graphic>
          <a:graphicData uri="http://schemas.openxmlformats.org/drawingml/2006/table">
            <a:tbl>
              <a:tblPr/>
              <a:tblGrid>
                <a:gridCol w="2374920"/>
                <a:gridCol w="1724040"/>
                <a:gridCol w="352440"/>
                <a:gridCol w="879480"/>
                <a:gridCol w="609480"/>
                <a:gridCol w="623880"/>
                <a:gridCol w="846000"/>
              </a:tblGrid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oo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larg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oo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medi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oo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small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throo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larg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throo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medi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chen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larg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ing roo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larg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ning roo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edi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roo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larg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tility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medium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x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(sq. ft.)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70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 Proxies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el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reens, reports, scripts, fi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 chap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bjects as Proxie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relation with development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bers of objects correlate reasonably wel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LOC correlate very close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LOC can be estimated using the standard component estimating meth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OC estimate can be calculated from the historical relationship between object LOC and program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bjects as Proxie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objects are selected as application entities, they can be visualized early in develop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s and procedures can often be estimated in the same wa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s, functions, procedures, and their LOC can be automatically coun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4080" y="59004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bject LOC Correlation With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velopment Hour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628560" y="1878120"/>
          <a:ext cx="73724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878120"/>
                    <a:ext cx="73724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 Proxies - Oth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candid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reens, reports, scripts, fi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 chap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number of items correlates with development, you estimate the number of it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a suitable proxy size measure, you can often estimate proxy siz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76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hapter Pages Versus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312" name="Object 3"/>
          <p:cNvGraphicFramePr/>
          <p:nvPr/>
        </p:nvGraphicFramePr>
        <p:xfrm>
          <a:off x="639720" y="145908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145908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7960" y="446040"/>
            <a:ext cx="78976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Next Lecture:  The PROBE Metho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OBE estimating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stical estimating consider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ize estimating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consider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85720" y="264960"/>
            <a:ext cx="8555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br>
              <a:rPr sz="4100"/>
            </a:br>
            <a:endParaRPr b="1" lang="en-US" sz="41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265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urate size estimates will help you to make better development pla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ing skill improves with practi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defined and measured process provides a repeatable basis for improv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several ways to make size estim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Estimate Size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s allow you to make better pla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accurately size the j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ide the job into separable el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s assist you in tracking progress.  You c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dge when the job scope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tter measure the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 in this cou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 estimating method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ild estimating skill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stimating Backgroun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models in other fiel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a large historical 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widely us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detailed planning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 a size estimate as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size estimating experi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% + errors are norm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w developers make estim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wer still use orderly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ing Principle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04960" y="1528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is an uncertain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one knows how big the product will b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arlier the estimate, the less is know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s can be biased by business and other pressur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is an intuitive learning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ility improves with experience and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eople will be better at estimating than oth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020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ing Principle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ing is a skil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ement will be gradu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never get very goo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 is to become consist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understand the variability of your estim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eek an even balance between under- and overestimat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1684440" y="752400"/>
            <a:ext cx="578304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2973240" y="1868400"/>
            <a:ext cx="1800" cy="30337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2909880" y="490212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09880" y="439884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2909880" y="389556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2909880" y="3392640"/>
            <a:ext cx="12528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2909880" y="2874960"/>
            <a:ext cx="12528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2909880" y="237168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2909880" y="186840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2973240" y="4398840"/>
            <a:ext cx="267192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Line 13"/>
          <p:cNvSpPr/>
          <p:nvPr/>
        </p:nvSpPr>
        <p:spPr>
          <a:xfrm flipV="1">
            <a:off x="297324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0" name="Line 14"/>
          <p:cNvSpPr/>
          <p:nvPr/>
        </p:nvSpPr>
        <p:spPr>
          <a:xfrm flipV="1">
            <a:off x="327168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Line 15"/>
          <p:cNvSpPr/>
          <p:nvPr/>
        </p:nvSpPr>
        <p:spPr>
          <a:xfrm flipV="1">
            <a:off x="357012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2" name="Line 16"/>
          <p:cNvSpPr/>
          <p:nvPr/>
        </p:nvSpPr>
        <p:spPr>
          <a:xfrm flipV="1">
            <a:off x="386856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3" name="Line 17"/>
          <p:cNvSpPr/>
          <p:nvPr/>
        </p:nvSpPr>
        <p:spPr>
          <a:xfrm flipV="1">
            <a:off x="4167360" y="4335480"/>
            <a:ext cx="144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Line 18"/>
          <p:cNvSpPr/>
          <p:nvPr/>
        </p:nvSpPr>
        <p:spPr>
          <a:xfrm flipV="1">
            <a:off x="444960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Line 19"/>
          <p:cNvSpPr/>
          <p:nvPr/>
        </p:nvSpPr>
        <p:spPr>
          <a:xfrm flipV="1">
            <a:off x="474804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6" name="Line 20"/>
          <p:cNvSpPr/>
          <p:nvPr/>
        </p:nvSpPr>
        <p:spPr>
          <a:xfrm flipV="1">
            <a:off x="5046840" y="4335480"/>
            <a:ext cx="144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346720" y="4335480"/>
            <a:ext cx="144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8" name="Line 22"/>
          <p:cNvSpPr/>
          <p:nvPr/>
        </p:nvSpPr>
        <p:spPr>
          <a:xfrm flipV="1">
            <a:off x="5645160" y="4335480"/>
            <a:ext cx="144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9" name="Freeform 23"/>
          <p:cNvSpPr/>
          <p:nvPr/>
        </p:nvSpPr>
        <p:spPr>
          <a:xfrm>
            <a:off x="2973240" y="2246400"/>
            <a:ext cx="2671920" cy="1979640"/>
          </a:xfrm>
          <a:custGeom>
            <a:avLst/>
            <a:gdLst/>
            <a:ahLst/>
            <a:rect l="l" t="t" r="r" b="b"/>
            <a:pathLst>
              <a:path w="170" h="126">
                <a:moveTo>
                  <a:pt x="0" y="126"/>
                </a:moveTo>
                <a:lnTo>
                  <a:pt x="19" y="103"/>
                </a:lnTo>
                <a:lnTo>
                  <a:pt x="38" y="0"/>
                </a:lnTo>
                <a:lnTo>
                  <a:pt x="57" y="79"/>
                </a:lnTo>
                <a:lnTo>
                  <a:pt x="76" y="96"/>
                </a:lnTo>
                <a:lnTo>
                  <a:pt x="94" y="106"/>
                </a:lnTo>
                <a:lnTo>
                  <a:pt x="113" y="116"/>
                </a:lnTo>
                <a:lnTo>
                  <a:pt x="132" y="119"/>
                </a:lnTo>
                <a:lnTo>
                  <a:pt x="151" y="92"/>
                </a:lnTo>
                <a:lnTo>
                  <a:pt x="170" y="38"/>
                </a:lnTo>
              </a:path>
            </a:pathLst>
          </a:custGeom>
          <a:noFill/>
          <a:ln w="0">
            <a:solidFill>
              <a:srgbClr val="00008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0" name="Freeform 24"/>
          <p:cNvSpPr/>
          <p:nvPr/>
        </p:nvSpPr>
        <p:spPr>
          <a:xfrm>
            <a:off x="2973240" y="4116240"/>
            <a:ext cx="2671920" cy="487440"/>
          </a:xfrm>
          <a:custGeom>
            <a:avLst/>
            <a:gdLst/>
            <a:ahLst/>
            <a:rect l="l" t="t" r="r" b="b"/>
            <a:pathLst>
              <a:path w="170" h="31">
                <a:moveTo>
                  <a:pt x="0" y="27"/>
                </a:moveTo>
                <a:lnTo>
                  <a:pt x="19" y="31"/>
                </a:lnTo>
                <a:lnTo>
                  <a:pt x="38" y="0"/>
                </a:lnTo>
                <a:lnTo>
                  <a:pt x="57" y="17"/>
                </a:lnTo>
                <a:lnTo>
                  <a:pt x="76" y="16"/>
                </a:lnTo>
                <a:lnTo>
                  <a:pt x="94" y="13"/>
                </a:lnTo>
                <a:lnTo>
                  <a:pt x="113" y="17"/>
                </a:lnTo>
                <a:lnTo>
                  <a:pt x="132" y="27"/>
                </a:lnTo>
                <a:lnTo>
                  <a:pt x="151" y="15"/>
                </a:lnTo>
                <a:lnTo>
                  <a:pt x="170" y="11"/>
                </a:lnTo>
              </a:path>
            </a:pathLst>
          </a:custGeom>
          <a:noFill/>
          <a:ln w="158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Freeform 25"/>
          <p:cNvSpPr/>
          <p:nvPr/>
        </p:nvSpPr>
        <p:spPr>
          <a:xfrm>
            <a:off x="2973240" y="4460760"/>
            <a:ext cx="2671920" cy="330480"/>
          </a:xfrm>
          <a:custGeom>
            <a:avLst/>
            <a:gdLst/>
            <a:ahLst/>
            <a:rect l="l" t="t" r="r" b="b"/>
            <a:pathLst>
              <a:path w="170" h="21">
                <a:moveTo>
                  <a:pt x="0" y="13"/>
                </a:moveTo>
                <a:lnTo>
                  <a:pt x="19" y="21"/>
                </a:lnTo>
                <a:lnTo>
                  <a:pt x="38" y="0"/>
                </a:lnTo>
                <a:lnTo>
                  <a:pt x="57" y="14"/>
                </a:lnTo>
                <a:lnTo>
                  <a:pt x="76" y="10"/>
                </a:lnTo>
                <a:lnTo>
                  <a:pt x="94" y="12"/>
                </a:lnTo>
                <a:lnTo>
                  <a:pt x="113" y="3"/>
                </a:lnTo>
                <a:lnTo>
                  <a:pt x="132" y="18"/>
                </a:lnTo>
                <a:lnTo>
                  <a:pt x="151" y="13"/>
                </a:lnTo>
                <a:lnTo>
                  <a:pt x="170" y="2"/>
                </a:lnTo>
              </a:path>
            </a:pathLst>
          </a:custGeom>
          <a:noFill/>
          <a:ln w="0">
            <a:solidFill>
              <a:srgbClr val="ff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2515680" y="1019160"/>
            <a:ext cx="41857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Estimating Error Range 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2422080" y="4775040"/>
            <a:ext cx="3740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4" name="Rectangle 28"/>
          <p:cNvSpPr/>
          <p:nvPr/>
        </p:nvSpPr>
        <p:spPr>
          <a:xfrm>
            <a:off x="2704320" y="427356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5" name="Rectangle 29"/>
          <p:cNvSpPr/>
          <p:nvPr/>
        </p:nvSpPr>
        <p:spPr>
          <a:xfrm>
            <a:off x="2485080" y="377028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6" name="Rectangle 30"/>
          <p:cNvSpPr/>
          <p:nvPr/>
        </p:nvSpPr>
        <p:spPr>
          <a:xfrm>
            <a:off x="2485080" y="326700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7" name="Rectangle 31"/>
          <p:cNvSpPr/>
          <p:nvPr/>
        </p:nvSpPr>
        <p:spPr>
          <a:xfrm>
            <a:off x="2485080" y="274788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8" name="Rectangle 32"/>
          <p:cNvSpPr/>
          <p:nvPr/>
        </p:nvSpPr>
        <p:spPr>
          <a:xfrm>
            <a:off x="2485080" y="224640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2485080" y="174312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0" name="Rectangle 34"/>
          <p:cNvSpPr/>
          <p:nvPr/>
        </p:nvSpPr>
        <p:spPr>
          <a:xfrm>
            <a:off x="29250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1" name="Rectangle 35"/>
          <p:cNvSpPr/>
          <p:nvPr/>
        </p:nvSpPr>
        <p:spPr>
          <a:xfrm>
            <a:off x="32234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2" name="Rectangle 36"/>
          <p:cNvSpPr/>
          <p:nvPr/>
        </p:nvSpPr>
        <p:spPr>
          <a:xfrm>
            <a:off x="35218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3" name="Rectangle 37"/>
          <p:cNvSpPr/>
          <p:nvPr/>
        </p:nvSpPr>
        <p:spPr>
          <a:xfrm>
            <a:off x="382032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4" name="Rectangle 38"/>
          <p:cNvSpPr/>
          <p:nvPr/>
        </p:nvSpPr>
        <p:spPr>
          <a:xfrm>
            <a:off x="41187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5" name="Rectangle 39"/>
          <p:cNvSpPr/>
          <p:nvPr/>
        </p:nvSpPr>
        <p:spPr>
          <a:xfrm>
            <a:off x="44031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6" name="Rectangle 40"/>
          <p:cNvSpPr/>
          <p:nvPr/>
        </p:nvSpPr>
        <p:spPr>
          <a:xfrm>
            <a:off x="47016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7" name="Rectangle 41"/>
          <p:cNvSpPr/>
          <p:nvPr/>
        </p:nvSpPr>
        <p:spPr>
          <a:xfrm>
            <a:off x="50000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8" name="Rectangle 42"/>
          <p:cNvSpPr/>
          <p:nvPr/>
        </p:nvSpPr>
        <p:spPr>
          <a:xfrm>
            <a:off x="52984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09" name="Rectangle 43"/>
          <p:cNvSpPr/>
          <p:nvPr/>
        </p:nvSpPr>
        <p:spPr>
          <a:xfrm>
            <a:off x="5596920" y="5075280"/>
            <a:ext cx="2048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0" name="Rectangle 45"/>
          <p:cNvSpPr/>
          <p:nvPr/>
        </p:nvSpPr>
        <p:spPr>
          <a:xfrm>
            <a:off x="3286440" y="5467320"/>
            <a:ext cx="20779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Numbe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1" name="Rectangle 46"/>
          <p:cNvSpPr/>
          <p:nvPr/>
        </p:nvSpPr>
        <p:spPr>
          <a:xfrm rot="16200000">
            <a:off x="1668960" y="3252600"/>
            <a:ext cx="9180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Erro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2" name="Rectangle 47"/>
          <p:cNvSpPr/>
          <p:nvPr/>
        </p:nvSpPr>
        <p:spPr>
          <a:xfrm>
            <a:off x="5959440" y="2889360"/>
            <a:ext cx="1351080" cy="1006200"/>
          </a:xfrm>
          <a:prstGeom prst="rect">
            <a:avLst/>
          </a:prstGeom>
          <a:solidFill>
            <a:srgbClr val="ffffff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3" name="Line 48"/>
          <p:cNvSpPr/>
          <p:nvPr/>
        </p:nvSpPr>
        <p:spPr>
          <a:xfrm>
            <a:off x="6037200" y="3078000"/>
            <a:ext cx="628560" cy="1800"/>
          </a:xfrm>
          <a:prstGeom prst="line">
            <a:avLst/>
          </a:prstGeom>
          <a:ln w="0">
            <a:solidFill>
              <a:srgbClr val="00008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4" name="Rectangle 49"/>
          <p:cNvSpPr/>
          <p:nvPr/>
        </p:nvSpPr>
        <p:spPr>
          <a:xfrm>
            <a:off x="6713640" y="2936880"/>
            <a:ext cx="3726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5" name="Line 50"/>
          <p:cNvSpPr/>
          <p:nvPr/>
        </p:nvSpPr>
        <p:spPr>
          <a:xfrm>
            <a:off x="6037200" y="3408480"/>
            <a:ext cx="628560" cy="144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6" name="Rectangle 51"/>
          <p:cNvSpPr/>
          <p:nvPr/>
        </p:nvSpPr>
        <p:spPr>
          <a:xfrm>
            <a:off x="6713640" y="3267000"/>
            <a:ext cx="441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7" name="Line 52"/>
          <p:cNvSpPr/>
          <p:nvPr/>
        </p:nvSpPr>
        <p:spPr>
          <a:xfrm>
            <a:off x="6037200" y="3738600"/>
            <a:ext cx="628560" cy="1440"/>
          </a:xfrm>
          <a:prstGeom prst="line">
            <a:avLst/>
          </a:prstGeom>
          <a:ln w="0">
            <a:solidFill>
              <a:srgbClr val="99cc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8" name="Rectangle 53"/>
          <p:cNvSpPr/>
          <p:nvPr/>
        </p:nvSpPr>
        <p:spPr>
          <a:xfrm>
            <a:off x="6713640" y="3597120"/>
            <a:ext cx="33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19" name="Rectangle 54"/>
          <p:cNvSpPr/>
          <p:nvPr/>
        </p:nvSpPr>
        <p:spPr>
          <a:xfrm>
            <a:off x="1684440" y="752400"/>
            <a:ext cx="5767200" cy="5343480"/>
          </a:xfrm>
          <a:prstGeom prst="rect">
            <a:avLst/>
          </a:pr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Estimating Principles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0172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 advantages of using a defined estimating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have known practices that you can work to impro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provides a framework for gathering estimating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using consistent methods and historical data, your estimates will get more consist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9-07T19:59:01Z</cp:lastPrinted>
  <dcterms:modified xsi:type="dcterms:W3CDTF">2018-09-06T00:16:37Z</dcterms:modified>
  <cp:revision>108</cp:revision>
  <dc:subject/>
  <dc:title>No Slide Title</dc:title>
</cp:coreProperties>
</file>